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7A02-719B-4F31-897E-68E6BBEA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126-C0FC-4C41-82B9-DD5875BC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73EF-F80D-4BB4-AA77-3804F0F33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D93-D599-4AA7-92F4-B47CAAE94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21D7-D4B1-41BB-B5F0-B19B9A0B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578-9635-445A-A46A-6593AEE7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D322-00C4-42E4-9C4E-AA58B5D9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236D-7B8C-4E21-886B-BF0F72AA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1BD0-2F0A-4B4C-B501-24F7A8E8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C14C-3FBD-4AC0-AEC6-3377FD92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7CCB-8F0D-49F9-9BD4-EC58E232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A24-F875-4984-B4D5-6396AAA9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60816-7669-408F-A0AE-CFDE8460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74DC-F87B-43B2-B035-B2D547F3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4908-0EB4-4662-A562-69D9BEF7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9EAE-83B9-4D88-8948-2367751E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140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23480" y="228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140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23480" y="4355640"/>
            <a:ext cx="24778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72FB-B497-4181-B886-EC312D257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7D5-702F-401B-B7EF-EB02A9B9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617-6F8F-4DAA-B9EF-618BAEC6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E58-184C-4EE2-AD51-1DAF811C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9320" y="129528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975-B455-4F6A-A43E-49E03621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7C7-F671-4CEF-93A1-054C002F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3120" y="435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CDD1-F8B6-49C6-B0C3-3EBD2331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3120" y="2285640"/>
            <a:ext cx="3755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4355640"/>
            <a:ext cx="76960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BEF-87AA-46DF-9C10-304DAF93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1A3F-5F22-418D-B739-849A021856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DCDE-DF39-4FAA-9A25-B4C7E3F8A7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2209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Anatomical Term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50496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z at the end of the power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those who have not taken it y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029200" y="15238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mbilic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AN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gluteus maxim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952880" y="37339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FRONT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90720" y="1523880"/>
            <a:ext cx="25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gluteus maximus is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POSTERIO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o the umbilicu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143000" y="3809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BACK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7772400" y="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RO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4876920" y="464832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VENT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0666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so called </a:t>
            </a:r>
            <a:r>
              <a:rPr b="0" lang="en-US" sz="2400" spc="-1" strike="noStrike">
                <a:solidFill>
                  <a:srgbClr val="ff0000"/>
                </a:solidFill>
                <a:latin typeface="Garamond"/>
              </a:rPr>
              <a:t>DO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3276720" y="609480"/>
            <a:ext cx="990360" cy="60199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3505320" y="838080"/>
            <a:ext cx="45720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R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9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d6fc7"/>
                </a:solidFill>
                <a:latin typeface="Arial Black"/>
              </a:rPr>
              <a:t>Directional Terms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ior and inf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head, respec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Anterior and posterior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front and back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Medial, lateral,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the midline, away from the midlin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d6f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Proximal and distal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oser to and farther from the origin of the bo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d6fc7"/>
                </a:solidFill>
                <a:latin typeface="Arial"/>
              </a:rPr>
              <a:t>Superficial and deep</a:t>
            </a:r>
            <a:r>
              <a:rPr b="0" lang="en-US" sz="3200" spc="-1" strike="noStrike">
                <a:solidFill>
                  <a:srgbClr val="6d6fc7"/>
                </a:solidFill>
                <a:latin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oward and away from the body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0" t="0" r="0" b="5788"/>
          <a:stretch/>
        </p:blipFill>
        <p:spPr>
          <a:xfrm>
            <a:off x="398520" y="533520"/>
            <a:ext cx="85168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rcRect l="0" t="0" r="0" b="5934"/>
          <a:stretch/>
        </p:blipFill>
        <p:spPr>
          <a:xfrm>
            <a:off x="152280" y="533520"/>
            <a:ext cx="87454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0" t="0" r="0" b="5032"/>
          <a:stretch/>
        </p:blipFill>
        <p:spPr>
          <a:xfrm>
            <a:off x="404640" y="380880"/>
            <a:ext cx="833292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rcRect l="0" t="0" r="6527" b="4999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380880" y="533520"/>
            <a:ext cx="419112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gional Te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xial – head, neck, and tru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ndicular – appendages or li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regional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7696080" cy="3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Regional Term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2082960" y="1243080"/>
            <a:ext cx="497808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33520" y="1752480"/>
            <a:ext cx="7848360" cy="44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Sagittal and medi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right and left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Midsagittal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– sagittal plane that lies on the midlin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Frontal or coron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– divides the body into anterior and post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</a:rPr>
              <a:t>Transverse or horizontal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 (cross section) – divides the body into superior and inferior par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3520" y="1317240"/>
            <a:ext cx="72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Body Plane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1752480" y="990720"/>
            <a:ext cx="59198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n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8" descr=""/>
          <p:cNvPicPr/>
          <p:nvPr/>
        </p:nvPicPr>
        <p:blipFill>
          <a:blip r:embed="rId1"/>
          <a:srcRect l="0" t="0" r="47187" b="2920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0"/>
          <p:cNvSpPr/>
          <p:nvPr/>
        </p:nvSpPr>
        <p:spPr>
          <a:xfrm>
            <a:off x="7848720" y="137160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848720" y="4267080"/>
            <a:ext cx="304560" cy="304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4952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he 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3810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ndard reference pos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01-03_AnatomPositn_3"/>
          <p:cNvPicPr/>
          <p:nvPr/>
        </p:nvPicPr>
        <p:blipFill>
          <a:blip r:embed="rId1"/>
          <a:srcRect l="35646" t="16668" r="14030" b="14814"/>
          <a:stretch/>
        </p:blipFill>
        <p:spPr>
          <a:xfrm>
            <a:off x="5257800" y="152280"/>
            <a:ext cx="3589200" cy="6324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4421520" y="5638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Landmar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880" y="1760400"/>
            <a:ext cx="82454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2126"/>
              </a:spcAft>
              <a:buClr>
                <a:srgbClr val="ff6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Posterior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8" descr=""/>
          <p:cNvPicPr/>
          <p:nvPr/>
        </p:nvPicPr>
        <p:blipFill>
          <a:blip r:embed="rId1"/>
          <a:srcRect l="50004" t="0" r="0" b="2920"/>
          <a:stretch/>
        </p:blipFill>
        <p:spPr>
          <a:xfrm>
            <a:off x="4952880" y="990720"/>
            <a:ext cx="3132360" cy="54799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9"/>
          <p:cNvSpPr/>
          <p:nvPr/>
        </p:nvSpPr>
        <p:spPr>
          <a:xfrm>
            <a:off x="4724280" y="1600200"/>
            <a:ext cx="381240" cy="22096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961440" y="616572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5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Body Pla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7696080" y="640080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Verdana"/>
              </a:rPr>
              <a:t>Slide 1.2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39120" y="6461280"/>
            <a:ext cx="417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 2003 Pearson Education, Inc. publishing as Benjamin Cumming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152280" cy="1295280"/>
          </a:xfrm>
          <a:prstGeom prst="rect">
            <a:avLst/>
          </a:pr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2280" y="228600"/>
            <a:ext cx="8915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80880" y="176040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Aft>
                <a:spcPts val="1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rcRect l="0" t="0" r="0" b="3000"/>
          <a:stretch/>
        </p:blipFill>
        <p:spPr>
          <a:xfrm>
            <a:off x="1276200" y="990720"/>
            <a:ext cx="6591600" cy="54115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1295280" y="6202440"/>
            <a:ext cx="11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1.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natomical Position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reference position that allows for the use of consistent directional terminolog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descriptions of location are made from within anatomical 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ject is facing forward with palms forward, thumbs facing to the side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12952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066680" y="533520"/>
            <a:ext cx="7239240" cy="56386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057400" y="274320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ff"/>
                </a:solidFill>
                <a:latin typeface="Garamond"/>
              </a:rPr>
              <a:t>Anatomical Termi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5555 -0.44393 C -0.43593 -0.4037 -0.41753 -0.36254 -0.39687 -0.32347 C -0.39375 -0.31769 -0.38767 -0.31607 -0.3842 -0.31075 C -0.375 -0.29642 -0.36632 -0.28277 -0.35555 -0.27075 C -0.34687 -0.26104 -0.35434 -0.26798 -0.34774 -0.25803 C -0.33854 -0.24416 -0.32899 -0.23075 -0.31753 -0.21988 C -0.30885 -0.20254 -0.32066 -0.22428 -0.30954 -0.20948 C -0.30468 -0.203 -0.30312 -0.19792 -0.29687 -0.19237 C -0.29288 -0.18428 -0.28767 -0.18243 -0.28264 -0.17549 C -0.27691 -0.16786 -0.275 -0.16208 -0.26666 -0.15861 C -0.25937 -0.15214 -0.25538 -0.14173 -0.2493 -0.13318 C -0.24757 -0.12578 -0.24392 -0.12324 -0.24132 -0.1163 C -0.23489 -0.09873 -0.24566 -0.12231 -0.2368 -0.10358 C -0.23107 -0.07422 -0.24027 -0.04254 -0.2302 -0.0148 C -0.22448 0.03121 -0.23316 -0.03353 -0.22552 0.00832 C -0.22152 0.03075 -0.21944 0.05364 -0.21597 0.07607 C -0.21423 0.08717 -0.20885 0.10775 -0.20816 0.11399 C -0.20434 0.14937 -0.196 0.18451 -0.17951 0.21341 C -0.17187 0.22728 -0.15538 0.23861 -0.14444 0.24717 C -0.12517 0.2622 -0.06909 0.25549 -0.0651 0.25572 C -0.03541 0.2689 -0.00468 0.28023 0.02535 0.29156 C 0.03525 0.29526 0.04688 0.29526 0.05712 0.29804 C 0.06615 0.30035 0.07483 0.30474 0.08386 0.30636 C 0.10191 0.30937 0.12014 0.30867 0.13785 0.31075 C 0.1698 0.3059 0.20157 0.30127 0.23334 0.29595 C 0.24028 0.2948 0.25382 0.29156 0.25382 0.29156 C 0.26042 0.28301 0.26823 0.27769 0.27448 0.26844 C 0.29445 0.23908 0.31302 0.18613 0.32049 0.14798 C 0.3283 0.10798 0.33056 0.05734 0.34445 0.02104 C 0.34532 0.00763 0.34757 -0.00578 0.34757 -0.01942 C 0.34757 -0.06011 0.34688 -0.10081 0.34601 -0.14173 C 0.34462 -0.20578 0.30851 -0.23445 0.2698 -0.26011 C 0.24844 -0.2978 0.23785 -0.3348 0.2 -0.34266 C 0.18716 -0.34196 0.17448 -0.3422 0.16164 -0.34035 C 0.15973 -0.34011 0.15868 -0.33711 0.15712 -0.33618 C 0.15243 -0.33364 0.14757 -0.33202 0.14271 -0.32994 C 0.13698 -0.32763 0.13108 -0.32763 0.12535 -0.32555 C 0.1132 -0.3163 0.10348 -0.30243 0.09028 -0.29595 C 0.08108 -0.28416 0.0698 -0.27907 0.05851 -0.27075 C 0.05799 -0.26983 0.05157 -0.2585 0.0507 -0.25595 C 0.04723 -0.24509 0.04757 -0.23052 0.04115 -0.22196 C 0.03716 -0.2067 0.02292 -0.18474 0.01736 -0.17133 C 0.00921 -0.15191 0.00973 -0.12855 0.00469 -0.10798 C 0.00313 -0.09248 0.00122 -0.08 -0.00329 -0.06566 C 0.00122 -0.04116 0.00157 -0.01318 0.00157 0.01249 L -3.61111E-006 2.77457E-006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2590920" y="1143000"/>
            <a:ext cx="4343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Sup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971800" y="3733920"/>
            <a:ext cx="358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Garamond"/>
              </a:rPr>
              <a:t>Inferior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2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743200" y="13716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up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200400" y="48006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nferi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990720" y="2514600"/>
            <a:ext cx="74674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5a5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aramond"/>
              </a:rPr>
              <a:t>TRANSVERSE PLAN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0834 -2.31214E-007 L 3.33333E-006 -2.31214E-007 E">
                                      <p:cBhvr>
                                        <p:cTn id="46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733920" y="990720"/>
            <a:ext cx="380880" cy="51051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66880" y="304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ody Mid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419720" y="175248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Medi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095880" y="36576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d6fc7"/>
                </a:solidFill>
                <a:latin typeface="Garamond"/>
              </a:rPr>
              <a:t>Later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334120" y="1143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6858000" y="4572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1905120" y="3504960"/>
            <a:ext cx="1676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04920" y="3276720"/>
            <a:ext cx="274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Sagittal</a:t>
            </a:r>
            <a:r>
              <a:rPr b="0" lang="en-US" sz="2400" spc="-1" strike="noStrike">
                <a:solidFill>
                  <a:srgbClr val="99cc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Garamond"/>
              </a:rPr>
              <a:t>Pl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838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Extremities have a different set of te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590920" y="1752480"/>
            <a:ext cx="1218960" cy="121932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2895480" y="3124080"/>
            <a:ext cx="685800" cy="23623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 rot="2508000">
            <a:off x="2666520" y="5562720"/>
            <a:ext cx="381240" cy="6858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 rot="19894200">
            <a:off x="3352680" y="5562360"/>
            <a:ext cx="381240" cy="60948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981080" y="3962520"/>
            <a:ext cx="83844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1676520" y="3124080"/>
            <a:ext cx="228600" cy="99072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3581280" y="3962520"/>
            <a:ext cx="990720" cy="30456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 rot="4456200">
            <a:off x="4876560" y="3581280"/>
            <a:ext cx="304920" cy="914400"/>
          </a:xfrm>
          <a:prstGeom prst="rect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 flipV="1">
            <a:off x="4191120" y="4266720"/>
            <a:ext cx="8380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029200" y="5257800"/>
            <a:ext cx="3657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pper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PROXI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>
            <a:off x="5105160" y="3200400"/>
            <a:ext cx="75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029200" y="2590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rm is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DIS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324480" y="34290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THE TRUNK or MIDLINE OF THE BO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2"/>
          <p:cNvSpPr/>
          <p:nvPr/>
        </p:nvSpPr>
        <p:spPr>
          <a:xfrm>
            <a:off x="609480" y="1447920"/>
            <a:ext cx="4267440" cy="441936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1523880" y="2590920"/>
            <a:ext cx="60984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3200400" y="2590920"/>
            <a:ext cx="609480" cy="60948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2438280" y="3276720"/>
            <a:ext cx="304920" cy="685800"/>
          </a:xfrm>
          <a:prstGeom prst="ellipse">
            <a:avLst/>
          </a:prstGeom>
          <a:solidFill>
            <a:srgbClr val="005e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>
            <a:off x="1371600" y="4419720"/>
            <a:ext cx="106668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 flipV="1">
            <a:off x="2438280" y="4495680"/>
            <a:ext cx="1295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3886200" y="2743200"/>
            <a:ext cx="22096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 flipH="1" flipV="1">
            <a:off x="3809520" y="4647960"/>
            <a:ext cx="22100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6172200" y="2133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eyes are </a:t>
            </a:r>
            <a:r>
              <a:rPr b="0" lang="en-US" sz="1800" spc="-1" strike="noStrike">
                <a:solidFill>
                  <a:srgbClr val="008000"/>
                </a:solidFill>
                <a:latin typeface="Garamond"/>
              </a:rPr>
              <a:t>SUPERIOR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to the mou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248520" y="43434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mouth is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INFERIOR 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o the ey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5:37:15Z</dcterms:created>
  <dc:creator>ashansel</dc:creator>
  <dc:description/>
  <dc:language>en-US</dc:language>
  <cp:lastModifiedBy>ashansel</cp:lastModifiedBy>
  <dcterms:modified xsi:type="dcterms:W3CDTF">2010-09-09T14:39:47Z</dcterms:modified>
  <cp:revision>12</cp:revision>
  <dc:subject/>
  <dc:title>Slide 1</dc:title>
</cp:coreProperties>
</file>